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85 S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18. Apr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3040" y="1519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SG2 products - Swift/ Ibis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240" y="3371760"/>
            <a:ext cx="8506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ft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22480" y="33195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81160" y="33908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81160" y="359100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81160" y="3780000"/>
            <a:ext cx="144360" cy="14436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800360" y="1359000"/>
            <a:ext cx="7021080" cy="4656600"/>
            <a:chOff x="1800360" y="1359000"/>
            <a:chExt cx="7021080" cy="4656600"/>
          </a:xfrm>
        </p:grpSpPr>
        <p:sp>
          <p:nvSpPr>
            <p:cNvPr id="94" name=""/>
            <p:cNvSpPr/>
            <p:nvPr/>
          </p:nvSpPr>
          <p:spPr>
            <a:xfrm>
              <a:off x="1800360" y="1359000"/>
              <a:ext cx="7021080" cy="465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52560" y="1359000"/>
              <a:ext cx="6948000" cy="46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828800" y="1432080"/>
            <a:ext cx="696420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M0-HW status reached on 05.04.2005 (w/o SW, ST, Q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S0-HW status target 22.04.2005 (w/o SW, ST, Q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M0-HW target end of April 2005 (w/o SW, ST, Q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rough planning done, alignment of detailed plans after B1 run w/o software input not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S0-HW shifted by 1week, supplier selection process still ongo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&gt; no agreement between mechanics and procurement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one layout but already two PCBs for Swift and Ibis, high risk that two layouts are necessary because of RF performance issues &gt;&gt; decision after Swift A1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 display concept is a problem for Swift antenna performance because of flex leng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&gt; probability that two displays with different flex length are needed is higher than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 of several lines shifted because of Kestrel, teams are now distributed on several sides &gt;&gt; changing team members, higher co-ordination effort and increased risk of communication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bis M0-HW endangered because of blocked and shifted mechanics resources &gt;&gt; by Kest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wift BOM target cannot be met &gt;&gt; currently 14€ below target; CRW workshop on April 1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latform SW timeline missing &gt;&gt; detailed project planning not possible, no DS 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3040" y="1519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Next project steps and needed decisions</a:t>
            </a:r>
            <a:br>
              <a:rPr sz="2000"/>
            </a:b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SG2 products - Swift/ Ib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432080"/>
            <a:ext cx="6964200" cy="469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 project steps – short and mid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S0-HW milestone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A1 run E05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M0-HW and S0-HW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ed decisions how to contin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ft budget rele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‘050€ budget needed for Swift long runners in mechanics and hardware for ti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E05.2005 (700k€ tool invest, 250k€ samples, 100k€ display N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&gt; Release budget for Swift to contin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cation of Swift DS delay (and later also Ibis DS stat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dates: M0-SW M06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ed of stable type approval software B12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: M1-SW M08.2005 (only 2 months after M0-S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in only 3,5 months time between M1-SW and need for TA-S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&gt; PLT statement: DS for Swift not possible, shift of “several months” to b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ision if project M1-HW and further S-Milestones need to be declared w/o S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W input regarding support of prototypes at the time of M1-HW (B05.20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-HW declaration w/o SW will have too many exce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al M1 commitment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&gt; PLT proposal: Team commits to performance description and waits for M1-S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9240" y="3371760"/>
            <a:ext cx="8506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ft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22480" y="33195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81160" y="33908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81160" y="359100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81160" y="3780000"/>
            <a:ext cx="144360" cy="14436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Kockmann Juergen</cp:lastModifiedBy>
  <cp:lastPrinted>2004-02-29T14:41:19Z</cp:lastPrinted>
  <dcterms:modified xsi:type="dcterms:W3CDTF">2005-04-15T15:55:42Z</dcterms:modified>
  <cp:revision>7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36365355</vt:r8>
  </property>
  <property fmtid="{D5CDD505-2E9C-101B-9397-08002B2CF9AE}" pid="3" name="_AuthorEmail">
    <vt:lpwstr>juergen.kockmann@siemens.com</vt:lpwstr>
  </property>
  <property fmtid="{D5CDD505-2E9C-101B-9397-08002B2CF9AE}" pid="4" name="_AuthorEmailDisplayName">
    <vt:lpwstr>Kockmann Juergen Com MD PD PGG</vt:lpwstr>
  </property>
  <property fmtid="{D5CDD505-2E9C-101B-9397-08002B2CF9AE}" pid="5" name="_EmailSubject">
    <vt:lpwstr>Swift&amp;Ibis Input T-PSR 18.04.2005</vt:lpwstr>
  </property>
</Properties>
</file>